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F63-D9BE-49A4-B22C-8EBC9E23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9C0-2A34-48D6-8B79-82496798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CBA-EDA8-4DCC-B4B7-BC5DD9F2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EDC-D375-46E0-9B7C-2CAF7173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7C24-590C-4244-8874-09FD9BC6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6617-76D2-4D79-9CE9-05E4B662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661F-D693-4E94-B098-486D7F6B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1293-B898-4490-B726-CF6D80C1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4B83-9044-4AE2-A535-03EC8B98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30C7-130C-456D-9EFE-84A6319E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FDB5-14A6-4895-A2ED-21B54617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DE2-255D-4CDD-ACF0-F03B1CD4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A46D-B70A-4726-9EBA-1C2B086B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823A-B4C7-4F69-86A0-215C5391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DC74-4780-414B-A9E6-B06DCCF5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D81E-B992-443D-8445-E8934FA0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E069-3880-46B1-85CB-B62B8F32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81720-49B6-420C-ADB8-988BD3594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CB541-170A-4B6C-B353-21620922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17C72-35CF-4B96-A981-E9634703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0DABA-6EA5-4264-9CAC-861BEBF1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7C35CF-9824-4C34-B89B-F59307EA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A2A-6E86-4BBF-AF8D-2D4D696A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654AD-0442-45F8-8010-CFFC1E46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5DB2A-BC77-4E35-A11D-5C444793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A2BB9-200D-46E8-B03F-457E0353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4D252-2889-45C1-95FF-15B45354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B245B-8D63-4844-83F9-3AC55B65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99385E-48E0-4DD9-A5FF-089BB449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6CE04-9335-421F-955C-63BCCCA0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8741-0880-4887-9DC5-E70D903D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EDC4-8307-47C3-A945-8FA3816E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F89DD-6169-4BD1-A7C0-18B9094E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8F9F-81F8-47C4-9978-3A1C2306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DEC57-3BDE-4A11-A103-A68D951F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8024A-1DDA-458F-9F82-5330ACD6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314D0-93F6-4C93-8C44-F3BB2580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51963-7854-4459-A04C-18FCE28F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781A1-A3AD-4654-9E20-C8FC15FF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6360E-3D08-4F9F-912F-FC6F2F5A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43B4B-9CF5-495D-8330-7E9A1FEA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E702-1E0E-4746-8289-0C2D90E8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2319-3593-4388-80A2-00500E3F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C76AD-5EAE-4036-ABFE-6DD43ACC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8EE4-60F6-40A1-992B-E1C54F91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F9510A-5F20-4D1D-9041-C8FA1E87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975A6-2B38-473A-A460-4E674460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A848D3-1F73-4748-B506-66BB5C29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DCECC-B182-460D-AE7D-9CD08670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265033-A3CE-42DA-A1BF-61AA0A94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525F6-0391-4B3A-A44F-74B6B355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524C5-5BA0-4E38-8556-AFE5DC7B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8546F-37D4-4DF2-A68C-800A5A19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0BB6F-3697-4034-80D3-677EB8CC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FFA91-DF0A-4878-B263-23A5AC87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CB6-B66F-40F1-BB41-B5130F0E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80D15-289E-41CB-8B7B-47FEDF59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B38351-FEF4-4DDB-A929-35F703F9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23CC7-D9DF-429F-86DB-2F39E587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4546F-2E0D-4D3A-A72E-D597AF70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15BC0-95B2-4B0F-AF3F-C1F1C33F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39E23-17B1-4CCA-A2F2-A2A1E212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10D3CD-2E64-4FE0-AA3D-97FA84F5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176DB-D7AB-4AF6-B642-7E3090ED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E70D2-3E36-45A7-BBC7-38B960BF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52BF6-6919-4C28-96DC-3B114A9B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706-0E55-4383-A8C9-61637CDA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885A1-F693-4F73-9A80-4491148B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B1E0D-329E-413D-A832-19497C98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D6BA5A-636E-4AB5-9004-4F40883B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37ED14-2A8E-4371-8F4E-29AE364E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B574F3-4E06-4225-BA89-69830D5E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BFBBEC-72F6-4589-B7DA-220014C9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52B4F-7359-4744-8325-58571CF1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8BA2B-281D-4E88-9AFA-8EFBC1DE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5AD13-FFF6-437B-B878-FE948FCB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CA9D62-5686-444F-9821-2AC1E4D0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E158-4063-4A11-93A5-3E0FD1FC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27971E-DAE7-41A3-AB60-D48AC27D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1193B-468A-4B14-8C43-64BB4B5C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39BF2E-5AAE-47EA-A55F-3E3F64CF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BA190-75E5-4351-BA7F-3AB4E4B7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7997B-B477-4691-88EE-B7878E7D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510B-4EAA-4127-B4A2-F4FEA142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6CFE-DF51-437E-ABC9-B8EFF59D34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6A16-6105-4BB1-AAE0-55F03EE0D3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0A90-3F84-42B5-A53E-6F4F076BC2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CD1C-EB42-4944-A11E-463D30AE02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B771-D1E3-41C2-9169-942BD2DE59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35AF-77EB-4066-930C-7E88BC6586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D6FC-31B7-45ED-8175-4A6A17D66E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0/Mount_Rushmore_National_Memorial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hitehousetapes.net/clip/lyndon-johnson-gerald-ford-congratulations-and-reques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EXECUTIVE BRANCH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  <a:ea typeface="ヒラギノ角ゴ Pro W3"/>
            </a:endParaRPr>
          </a:p>
        </p:txBody>
      </p:sp>
      <p:pic>
        <p:nvPicPr>
          <p:cNvPr id="353" name="Picture 5" descr="File:Mount Rushmore National Memoria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3124080"/>
            <a:ext cx="43466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5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do you think the office of the presidency has changed over tim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you think the president has more or less power now than he did in the past? Why or why no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you think the president is “closer to the people” more now or in the past? Why or why not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VARIED ROL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ommander in Chie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hief of St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iplo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hief Executi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Legislat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oral lea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arty lead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OMMANDER IN CHIEF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Limits: War Powers Act (1973): President must notify Congress within 48 hours of committing troops and troops must be removed after 60-90 days without congressional authorizat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5" descr="bushname"/>
          <p:cNvPicPr/>
          <p:nvPr/>
        </p:nvPicPr>
        <p:blipFill>
          <a:blip r:embed="rId1"/>
          <a:stretch/>
        </p:blipFill>
        <p:spPr>
          <a:xfrm>
            <a:off x="3048120" y="4076640"/>
            <a:ext cx="290484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IEF OF ST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eremonial du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7" descr="50696857"/>
          <p:cNvPicPr/>
          <p:nvPr/>
        </p:nvPicPr>
        <p:blipFill>
          <a:blip r:embed="rId1"/>
          <a:stretch/>
        </p:blipFill>
        <p:spPr>
          <a:xfrm>
            <a:off x="2057400" y="2819520"/>
            <a:ext cx="5048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DIPLO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Picture 4" descr="reagan_and_gorbachev_hold_discussions"/>
          <p:cNvPicPr/>
          <p:nvPr/>
        </p:nvPicPr>
        <p:blipFill>
          <a:blip r:embed="rId1"/>
          <a:stretch/>
        </p:blipFill>
        <p:spPr>
          <a:xfrm>
            <a:off x="1981080" y="1905120"/>
            <a:ext cx="53341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IEF EXECUTIVE/LEGISLATOR 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5119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ARTY LEADER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6038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MORAL LEA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5" descr="michelle-and--malia-and-sasha-obama-on-stage-at-the-democratic-national-convention-2008"/>
          <p:cNvPicPr/>
          <p:nvPr/>
        </p:nvPicPr>
        <p:blipFill>
          <a:blip r:embed="rId1"/>
          <a:stretch/>
        </p:blipFill>
        <p:spPr>
          <a:xfrm>
            <a:off x="1828800" y="2133720"/>
            <a:ext cx="529596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6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ade Obama’s presidency so far and justify the grad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do you think your political ideology might influence your perceptions of the president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METHOD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d your partner’s article and write a one-sentence summary at the bottom of the pag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o to the group that best demonstrates the role of the president found in your articl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s a group, fill in your section of the worksheet with examples of that role from Obama’s presidency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ch group will present examples to the whole clas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4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do you remember from yesterday about the general demographic characteristics of presidents so fa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ny checks and balances relating to the presidency that you can remembe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QUESTIONS FOR ARTI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What role(s) of the president are demonstrated in this article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What other branches of government are involved in this news story and how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What is your personal opinion on this issue? What questions does the article raise for you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7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s many of the formal (expressed in the Constitution) powers or roles of the presidency as you can (without looking at notes!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st as many of the informal (implied) powers or roles of the presidency as you can (without looking at notes!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your opinion, which is the most important role or power of the president and why? In other words, what do you think should be the president’s main job or responsibility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OME MORE INFORMAL POW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privileg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agreemen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ecutive orde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uasion/using the medi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CABINE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t in the Constitution, but has been around since Washington’s presidenc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ifteen departments, each headed by a secretary (or Attorney General, in the case of the Justice Department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BINET RESEARCH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partment of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nergy: Jacob, Katelyn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ducation: Maxine, Jessic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bor: Heather, Bryanna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ealth and Human Services: Shenna, Kelly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efense: Peter, Kriste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omeland Security: Casey, Bobby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tate: Sam, Alex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terior: Cody, Bea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merce: Kiernan, Laure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ustice: Nate, Christine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XECUTIVE OFFICE OF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 House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ffice of Communications (Press Secretary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ffice of Management and Budge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ational Security Counci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ational Economic Counci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OFFICE OF MANAGEMENT AND BUDGET (OMB)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pares the national budget that the President proposes to Congress each ye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ial influence over how much departments can spen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NATIONAL SECURITY COUNCIL (NSC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reated by Truman in 1947 at the start of the Cold W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ade up of the President, Vice Pres., Secretary of State, Secretary of Defense, CIA, Joint Chiefs of Sta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ESIDENTIAL PERSONALITY AND PERSUASION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eddy Roosevelt: White House is a “bully pulpit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ny idea of what this means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INFLUENCING CONGRES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housetapes.or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611c"/>
                </a:solidFill>
                <a:uFillTx/>
                <a:latin typeface="Century Schoolbook"/>
                <a:ea typeface="ヒラギノ角ゴ Pro W3"/>
                <a:hlinkClick r:id="rId1"/>
              </a:rPr>
              <a:t>http://whitehousetapes.net/clip/lyndon-johnson-gerald-ford-congratulations-and-reques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5" descr="lbj"/>
          <p:cNvPicPr/>
          <p:nvPr/>
        </p:nvPicPr>
        <p:blipFill>
          <a:blip r:embed="rId2"/>
          <a:stretch/>
        </p:blipFill>
        <p:spPr>
          <a:xfrm>
            <a:off x="2286000" y="3733920"/>
            <a:ext cx="48006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RANKING THE PRESIDENTS</a:t>
            </a:r>
            <a:br>
              <a:rPr sz="3600"/>
            </a:b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 (SCHLESINGER, JR. 1996 POLL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p 10 Be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) Lincol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) Washingt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3) FD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4) Jeffer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) Jack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6) Teddy Roosevelt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7) Wilso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8) Truman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9) Polk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0) Eisenhow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 Wors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) Warren G. Harding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) James Buchana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3) Andrew Johns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4) Nixo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5) Herbert Hoover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APPEALING DIRECTLY TO THE PEOP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n: FDR’s “Fireside chats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vening radio speech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w: Weekly addresses online, State of the Union addr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Rhetoric: The art of discou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speaker’s ability to persuade, inform, motivat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killful rhetoric: Charisma, emotion, logic/reason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ROLE OF 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Brainstorm: What is the medi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2" name="Picture 5" descr="huusxveugey80zgejggveg"/>
          <p:cNvPicPr/>
          <p:nvPr/>
        </p:nvPicPr>
        <p:blipFill>
          <a:blip r:embed="rId1"/>
          <a:stretch/>
        </p:blipFill>
        <p:spPr>
          <a:xfrm>
            <a:off x="990720" y="1676520"/>
            <a:ext cx="70880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MEDIA AND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w does the media shape public opinion of the preside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 craftiest and most dishonest politician that ever disgraced an [American political] office.”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llinois State Regis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ho is this quote about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ite House Press Corps: Group of reporters that cover the presidency and news briefings by the White House Press Secretary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BIAS IN THE MEDI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at is bias? What is slan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041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JOURNAL #28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is the media/press/public opinion an informal “limit” on presidential power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can the president use the media to his advantage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MITS ON PRESIDENTIAL POW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mal and inform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ING THE PRESIDENT: THE BASICS OF THE ELECTORAL COLLEG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n insufferably long, drawn-out, and confusing process”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on’t Know Much About History—Is the Electoral College a Party School?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ot a direct 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nstead of voting for candidate, voting for a slate of electors who have pledged to vote for a particular candidat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ORAL COLLE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ach state has electors equal to the number of its senators and representatives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tal: 538, appointed by their state political part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have to vote for winner with most popular votes (faithless electors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Need 270 electoral votes to win (majority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In most states, “winner takes all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andidate with the majority or plurality of votes gets all of the electoral votes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ELECTORAL COLLEG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lections decided by the Hous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00: Jefferson and Burr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John Quincy Adams and Jacks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on popular vote but lost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24: Adams, Jackson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76: Hayes, Tilde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1888: Harrison, Cleveland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2000: Bush, Gore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MORE THAN JUST THE PRESIDENT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13480" cy="74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2000 ELEC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Gore won the popular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ore: 50,999,897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: 50,456,00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Bush won the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ore: 266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: 27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w? Florid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ush won by 537 votes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O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o win presidency, need broad regional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ot dominated by cities or populous states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omotes political stability (two parti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ederalis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big one: Has worked for over 220 yea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ON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inner of popular vote may not win electoral vo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Faithless electors”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Votes not distributed evenl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Difficult for third par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ver-focus on “swing” stat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THE ROAD TO THE WHITE HOUSE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0-11 months: Announcement of candidacy, building organization, obtaining suppo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1-14 months: Early primaries (Feb-March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15-18 months: Late primaries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0-24 months: Nominating convention, national campaig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Election Day: Tues. after the first Monday in November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PRIMARY CAMPAIG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aucuses: Small meetings to determine which candidate to endo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st important: Iow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imaries: States vote and the candidate with the most votes wins delegates at their party’s nominating conven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st important: New Hampshire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INAUGURA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January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ath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"I do solemnly swear (or affirm) that I will faithfully execute the office of President of the United States, and will to the best of my ability, preserve, protect and defend the Constitution of the United States."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ACCORDING TO ARTICLE II OF THE CONSTITUTION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Must be at least 35 years old (Kennedy was 43 when elected, Teddy Roosevelt was 42 when he took office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natural-born citiz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A resident of the U.S. for at least 14 year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owers: make treaties, appointmen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tate of the Union” report to joint session of Congres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Command of military, can grant pard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erms: Limited to two four-year terms by the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Amend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UNOFFICIAL “REQUIREMENTS”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What have most presidents been lik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UNOFFICIAL “REQUIREMENTS”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ut of 43 president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3 were m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2 were wh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3 were (at least nominally) Christian (42 Protestants, 1 Catholic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2 had prior military experienc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5 were lawyers before entering politic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4 were former VP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5 were former Senator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9 were former representa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1 were former governo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CHECKS AND BALANCE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 appoints justices, ambassadors, and cabinet secretaries and Senate confirms the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Senate approves treati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use can impeach President, Senate convic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70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ndrew Johnson, Clint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House selects President if no majority of electoral vot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  <a:ea typeface="ヒラギノ角ゴ Pro W3"/>
              </a:rPr>
              <a:t>SUCCESS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“…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the most insignificant office that ever the invention of man contrived or his imagination conceived.”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---John Adams, on the Vice Presidency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Order: Vice President, Speaker of the House, President pro tempore (Senate), Secretary of State, other cabinet secretaries, et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2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entury Schoolbook"/>
                <a:ea typeface="ヒラギノ角ゴ Pro W3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 Amendment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President can nominate the VP if there is a vacancy and he or she is confirmed by a majority vote in Congres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  <a:ea typeface="ヒラギノ角ゴ Pro W3"/>
              </a:rPr>
              <a:t>VP can serve as “acting President” if President is unab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8:34:56Z</dcterms:created>
  <dc:creator>WHPS</dc:creator>
  <dc:description/>
  <dc:language>en-US</dc:language>
  <cp:lastModifiedBy>Allison Hopkins</cp:lastModifiedBy>
  <cp:lastPrinted>2010-10-19T20:54:59Z</cp:lastPrinted>
  <dcterms:modified xsi:type="dcterms:W3CDTF">2012-04-04T23:22:06Z</dcterms:modified>
  <cp:revision>178</cp:revision>
  <dc:subject/>
  <dc:title>The Executive Branch</dc:title>
</cp:coreProperties>
</file>